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FCD-D928-4C8A-A84B-AFDFB29C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D81-6792-4E27-A48A-4B579C3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B1F-EDF0-4972-90B2-147F2940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6EA-27B0-4C69-8C3F-006FA9EE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B10-7C09-45C8-84FF-B19A7B8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05B-A2FE-41DC-B9A6-72DF86C8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1B4-0032-4C39-8FE2-9B8242EF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25D-14F4-421A-8DC8-F195C70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9A9-8D66-4631-A882-345C63F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633-78D4-4DBB-A7F5-610D787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BBF-8B40-43A8-8A3D-9582F82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90-5637-4A7A-A890-0773512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82080" y="25560"/>
            <a:ext cx="669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b7834"/>
                </a:solidFill>
                <a:latin typeface="Frutiger 45 Light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6200280" y="6552720"/>
            <a:ext cx="1266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b7834"/>
                </a:solidFill>
                <a:latin typeface="Frutiger 45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600" y="6552720"/>
            <a:ext cx="86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D971-8EEB-4B24-8017-8BEC3C68D11D}" type="slidenum">
              <a:rPr b="0" lang="en-GB" sz="1200" spc="-1" strike="noStrike">
                <a:solidFill>
                  <a:srgbClr val="8b7834"/>
                </a:solidFill>
                <a:latin typeface="Frutiger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440" y="6553080"/>
            <a:ext cx="540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b7834"/>
                </a:solidFill>
                <a:latin typeface="Frutiger 45 Light"/>
              </a:rPr>
              <a:t>© Oberon microsystems, Inc., Zürich, Switzerland, 2001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Frutiger 45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Frutiger 45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lackBox for Linux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Bengt Johansson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Oberon microsystems, Inc.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Zürich, Switzerland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www.oberon.ch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Desktop, Gnome vs. KDE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Gnom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C-library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LPL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Documentation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US-leader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KD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C++-librar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P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Documenta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Europe-lead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225-D13A-4A6A-B817-79226BC2E1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933640" y="2784600"/>
            <a:ext cx="3276720" cy="1216080"/>
            <a:chOff x="2933640" y="2784600"/>
            <a:chExt cx="3276720" cy="1216080"/>
          </a:xfrm>
        </p:grpSpPr>
        <p:sp>
          <p:nvSpPr>
            <p:cNvPr id="132" name=""/>
            <p:cNvSpPr/>
            <p:nvPr/>
          </p:nvSpPr>
          <p:spPr>
            <a:xfrm>
              <a:off x="2933640" y="2784600"/>
              <a:ext cx="3276720" cy="121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4880" y="28227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GTK+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Desktop, Gnome vs. GTK+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4038480"/>
            <a:ext cx="15238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libc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3429000"/>
            <a:ext cx="15238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lib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0160" y="4038480"/>
            <a:ext cx="15238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X11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3429000"/>
            <a:ext cx="15238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D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2819520"/>
            <a:ext cx="15238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TK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0160" y="2209680"/>
            <a:ext cx="15238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Gno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5960" y="34941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Portable typ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63840" y="34797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Drawing primitiv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440" y="289548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Tool kit, Widge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7920" y="22860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Desktop, Them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8E8-326B-4F4B-B29A-29D51087C44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Future, Short Term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82736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HostDialog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HostPorts.MarkRec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crolling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Trap handling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HostCFram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ommTCP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1828800"/>
            <a:ext cx="5486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552-AA48-47A8-B1BA-10252A50D2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Future, Long Term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1828800"/>
            <a:ext cx="5486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Menu shortcut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Drag &amp; drop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Copy &amp; paste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Selections (unix specific)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HostPrinter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HostBitmaps?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Bonobo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Window system (MDI/SDI)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828-DFCC-4BBD-B131-6A125FFD08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Overview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Demo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Basic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Boot loader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C library bindings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The BlackBox framework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Desktop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Gnome vs. KDE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Gnome vs. GTK+ (glib, GDK, GTK)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Future work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CDD-E4C6-4963-B0BD-050A314883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oot Loader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impel linker (LinLinker)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BlackBox object file forma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imple C-program to load linked modules and start the Kern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28D-87C1-44B2-B402-6096595DA8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oot Loader (LinLinker)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2240" y="426708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rutiger 45 Light"/>
              </a:rPr>
              <a:t>…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743200" y="1447920"/>
            <a:ext cx="3657600" cy="5029200"/>
            <a:chOff x="2743200" y="1447920"/>
            <a:chExt cx="3657600" cy="5029200"/>
          </a:xfrm>
        </p:grpSpPr>
        <p:sp>
          <p:nvSpPr>
            <p:cNvPr id="93" name=""/>
            <p:cNvSpPr/>
            <p:nvPr/>
          </p:nvSpPr>
          <p:spPr>
            <a:xfrm>
              <a:off x="2743200" y="1447920"/>
              <a:ext cx="1143000" cy="533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FileTag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6200" y="1447920"/>
              <a:ext cx="1143000" cy="533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Version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1981080"/>
              <a:ext cx="18288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KernelName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1981080"/>
              <a:ext cx="18288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MainName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514600"/>
              <a:ext cx="18288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NewRec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2516040"/>
              <a:ext cx="18288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NewArr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048120"/>
              <a:ext cx="365760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Object file 1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5334120"/>
              <a:ext cx="3657600" cy="1143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Object file N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4191120"/>
              <a:ext cx="3657600" cy="38088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2743200" y="4952520"/>
              <a:ext cx="3657600" cy="38124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9200" y="1447920"/>
              <a:ext cx="1371600" cy="533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NofMods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627-C0DD-4131-A1F6-F8F6453373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oot Loader (Object Files)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828800"/>
            <a:ext cx="4113000" cy="3200400"/>
            <a:chOff x="762120" y="1828800"/>
            <a:chExt cx="4113000" cy="3200400"/>
          </a:xfrm>
        </p:grpSpPr>
        <p:sp>
          <p:nvSpPr>
            <p:cNvPr id="106" name=""/>
            <p:cNvSpPr/>
            <p:nvPr/>
          </p:nvSpPr>
          <p:spPr>
            <a:xfrm>
              <a:off x="762120" y="1828800"/>
              <a:ext cx="41130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Frutiger 45 Light"/>
                </a:rPr>
                <a:t>Header</a:t>
              </a: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2362320"/>
              <a:ext cx="41130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Meta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2895480"/>
              <a:ext cx="41130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Desc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3429000"/>
              <a:ext cx="41130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Code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3962520"/>
              <a:ext cx="41130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Fixups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4495680"/>
              <a:ext cx="41130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Frutiger 45 Light"/>
                </a:rPr>
                <a:t>Use</a:t>
              </a:r>
              <a:endParaRPr b="0" lang="en-US" sz="28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76640" y="2460600"/>
            <a:ext cx="23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Meta &amp; DevDebug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520" y="2971800"/>
            <a:ext cx="36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Kernel.Module &amp; Kernel.Type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28400" y="3505320"/>
            <a:ext cx="32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Machine code, entry poin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46760" y="403848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Links to memory block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1280" y="45720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All imported entitie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AD5-FD75-4DD4-B72F-500337AE7E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oot Loader (C program)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Reads the boot file from LinLinker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Loads modules in the same fashion as StdLoader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inds kernel module for fixup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inds main module and calls its body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4BE-01A5-4DCA-93AC-DDEE82528D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 Library Bindings 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447920"/>
            <a:ext cx="7772400" cy="14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MODULE </a:t>
            </a:r>
            <a:r>
              <a:rPr b="0" lang="en-US" sz="1600" spc="-1" strike="noStrike">
                <a:solidFill>
                  <a:srgbClr val="8b7834"/>
                </a:solidFill>
                <a:latin typeface="Frutiger 55 Roman"/>
              </a:rPr>
              <a:t>WinApi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["KERNEL32.dll"]</a:t>
            </a: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PROCEDURE </a:t>
            </a:r>
            <a:r>
              <a:rPr b="1" lang="en-GB" sz="1600" spc="-1" strike="noStrike">
                <a:solidFill>
                  <a:srgbClr val="8b7834"/>
                </a:solidFill>
                <a:latin typeface="Arial"/>
              </a:rPr>
              <a:t>Beep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* (dwFreq: </a:t>
            </a:r>
            <a:r>
              <a:rPr b="0" lang="en-GB" sz="1600" spc="-1" strike="noStrike" u="sng">
                <a:solidFill>
                  <a:srgbClr val="8b7834"/>
                </a:solidFill>
                <a:uFillTx/>
                <a:latin typeface="Arial"/>
              </a:rPr>
              <a:t>INTEGER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; dwDuration: </a:t>
            </a:r>
            <a:r>
              <a:rPr b="0" lang="en-GB" sz="1600" spc="-1" strike="noStrike" u="sng">
                <a:solidFill>
                  <a:srgbClr val="8b7834"/>
                </a:solidFill>
                <a:uFillTx/>
                <a:latin typeface="Arial"/>
              </a:rPr>
              <a:t>INTEGER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): BOOL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END </a:t>
            </a:r>
            <a:r>
              <a:rPr b="0" lang="en-US" sz="1600" spc="-1" strike="noStrike">
                <a:solidFill>
                  <a:srgbClr val="8b7834"/>
                </a:solidFill>
                <a:latin typeface="Frutiger 55 Roman"/>
              </a:rPr>
              <a:t>WinApi</a:t>
            </a: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dll :=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Kernel.LoadDll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(“KERNEL32.dll”)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fnc :=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Kernel.ThisDllObj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(dll, “Beep”)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038480"/>
            <a:ext cx="7772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MODULE </a:t>
            </a:r>
            <a:r>
              <a:rPr b="0" lang="en-US" sz="1600" spc="-1" strike="noStrike">
                <a:solidFill>
                  <a:srgbClr val="8b7834"/>
                </a:solidFill>
                <a:latin typeface="Frutiger 55 Roman"/>
              </a:rPr>
              <a:t>LinGdk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[“libgdk.so"]</a:t>
            </a: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PROCEDURE </a:t>
            </a:r>
            <a:r>
              <a:rPr b="1" lang="en-GB" sz="1600" spc="-1" strike="noStrike">
                <a:solidFill>
                  <a:srgbClr val="8b7834"/>
                </a:solidFill>
                <a:latin typeface="Arial"/>
              </a:rPr>
              <a:t>Beep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* ()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END </a:t>
            </a:r>
            <a:r>
              <a:rPr b="0" lang="en-US" sz="1600" spc="-1" strike="noStrike">
                <a:solidFill>
                  <a:srgbClr val="8b7834"/>
                </a:solidFill>
                <a:latin typeface="Frutiger 55 Roman"/>
              </a:rPr>
              <a:t>LinGdk </a:t>
            </a:r>
            <a:r>
              <a:rPr b="0" lang="en-GB" sz="1600" spc="-1" strike="noStrike">
                <a:solidFill>
                  <a:srgbClr val="8b7834"/>
                </a:solidFill>
                <a:latin typeface="Frutiger 55 Roman"/>
              </a:rPr>
              <a:t>.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77724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dll :=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Kernel.LoadDll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(“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libgdk.so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”)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fnc := </a:t>
            </a:r>
            <a:r>
              <a:rPr b="0" lang="en-GB" sz="1600" spc="-1" strike="noStrike">
                <a:solidFill>
                  <a:srgbClr val="8b7834"/>
                </a:solidFill>
                <a:latin typeface="Arial"/>
              </a:rPr>
              <a:t>Kernel.ThisDllObj</a:t>
            </a:r>
            <a:r>
              <a:rPr b="0" lang="en-US" sz="1600" spc="-1" strike="noStrike">
                <a:solidFill>
                  <a:srgbClr val="8b7834"/>
                </a:solidFill>
                <a:latin typeface="Arial"/>
              </a:rPr>
              <a:t>(dll, “Beep”);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5DC-3F49-4CD4-B72F-AD8BA3AC7E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lackBox Framework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urrently ported modules (more or less)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Kernel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 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HostFiles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Fonts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Ports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Windows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Dialog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Cmds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HostMenus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nterface modules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LinDl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LinLibc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LinGdk</a:t>
            </a: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,</a:t>
            </a:r>
            <a:r>
              <a:rPr b="0" lang="en-GB" sz="2800" spc="-1" strike="noStrike">
                <a:solidFill>
                  <a:srgbClr val="ffff99"/>
                </a:solidFill>
                <a:latin typeface="Frutiger 45 Light"/>
              </a:rPr>
              <a:t> LinGtk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CBF-0F54-4E05-B8B1-6FA747F65C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lackBox Framework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Directories makes it possible to go step by step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Unnecessary directories sometimes required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Documents and Printers.dir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Host-modules sometimes imported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StdLog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Hooks makes it difficul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851-B663-414C-9DAA-634E137EB3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.08.2001</a:t>
            </a: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2:13:41Z</dcterms:created>
  <dc:creator>Bengt Johansson</dc:creator>
  <dc:description/>
  <dc:language>en-US</dc:language>
  <cp:lastModifiedBy>Marc</cp:lastModifiedBy>
  <dcterms:modified xsi:type="dcterms:W3CDTF">2005-05-12T13:32:25Z</dcterms:modified>
  <cp:revision>69</cp:revision>
  <dc:subject/>
  <dc:title>BMW System Architecure Reference Guide</dc:title>
</cp:coreProperties>
</file>