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4D8-9E4A-455D-9241-4C49301D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7D6-C3BF-4D88-9B26-370E2C91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1DA-AC20-4FAB-9C9E-ADE1A7D9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763-6363-43CF-8D61-AFF05E73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136-676F-4D05-B5E2-550E093D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626-C882-4365-8340-0AAF11CD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B1D-AFC2-450A-A913-1E29CBD5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EB4-4240-476E-8519-6E9650B6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F20-EAD0-4F04-8CFB-FC285D66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ED5-805B-4592-B893-BD85A5F9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36F-E898-4473-833A-EA3CBF8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E2C-24B7-45F1-B6F9-FB2D624E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543E-EAB0-40EE-A83C-4F218FEEE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22760" y="11556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985080" y="11556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70880" y="107964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17440" y="11556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46640" y="25272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6146640" y="19173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85080" y="2413080"/>
            <a:ext cx="304560" cy="228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89640" y="2413080"/>
            <a:ext cx="304920" cy="228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94560" y="2413080"/>
            <a:ext cx="304920" cy="228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556080" y="622440"/>
            <a:ext cx="1066680" cy="1523160"/>
            <a:chOff x="3556080" y="622440"/>
            <a:chExt cx="1066680" cy="1523160"/>
          </a:xfrm>
        </p:grpSpPr>
        <p:grpSp>
          <p:nvGrpSpPr>
            <p:cNvPr id="51" name=""/>
            <p:cNvGrpSpPr/>
            <p:nvPr/>
          </p:nvGrpSpPr>
          <p:grpSpPr>
            <a:xfrm>
              <a:off x="3556080" y="622440"/>
              <a:ext cx="1066680" cy="1523160"/>
              <a:chOff x="3556080" y="622440"/>
              <a:chExt cx="1066680" cy="1523160"/>
            </a:xfrm>
          </p:grpSpPr>
          <p:sp>
            <p:nvSpPr>
              <p:cNvPr id="52" name=""/>
              <p:cNvSpPr/>
              <p:nvPr/>
            </p:nvSpPr>
            <p:spPr>
              <a:xfrm>
                <a:off x="3556080" y="622440"/>
                <a:ext cx="1066680" cy="1523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556080" y="927000"/>
                <a:ext cx="106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3556080" y="891360"/>
              <a:ext cx="7012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intf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dll = 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data[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i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ex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56080" y="622440"/>
              <a:ext cx="70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918040" y="622440"/>
            <a:ext cx="1067040" cy="1294920"/>
            <a:chOff x="5918040" y="622440"/>
            <a:chExt cx="1067040" cy="1294920"/>
          </a:xfrm>
        </p:grpSpPr>
        <p:grpSp>
          <p:nvGrpSpPr>
            <p:cNvPr id="57" name=""/>
            <p:cNvGrpSpPr/>
            <p:nvPr/>
          </p:nvGrpSpPr>
          <p:grpSpPr>
            <a:xfrm>
              <a:off x="5918040" y="622440"/>
              <a:ext cx="1067040" cy="1294920"/>
              <a:chOff x="5918040" y="622440"/>
              <a:chExt cx="1067040" cy="1294920"/>
            </a:xfrm>
          </p:grpSpPr>
          <p:sp>
            <p:nvSpPr>
              <p:cNvPr id="58" name=""/>
              <p:cNvSpPr/>
              <p:nvPr/>
            </p:nvSpPr>
            <p:spPr>
              <a:xfrm>
                <a:off x="5918040" y="622440"/>
                <a:ext cx="1067040" cy="129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918040" y="881280"/>
                <a:ext cx="106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918040" y="851040"/>
              <a:ext cx="7016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intf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dll = 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data[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i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18040" y="622440"/>
              <a:ext cx="70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955880" y="622440"/>
            <a:ext cx="1066680" cy="1294920"/>
            <a:chOff x="1955880" y="622440"/>
            <a:chExt cx="1066680" cy="1294920"/>
          </a:xfrm>
        </p:grpSpPr>
        <p:grpSp>
          <p:nvGrpSpPr>
            <p:cNvPr id="63" name=""/>
            <p:cNvGrpSpPr/>
            <p:nvPr/>
          </p:nvGrpSpPr>
          <p:grpSpPr>
            <a:xfrm>
              <a:off x="1955880" y="622440"/>
              <a:ext cx="1066680" cy="1294920"/>
              <a:chOff x="1955880" y="622440"/>
              <a:chExt cx="1066680" cy="1294920"/>
            </a:xfrm>
          </p:grpSpPr>
          <p:sp>
            <p:nvSpPr>
              <p:cNvPr id="64" name=""/>
              <p:cNvSpPr/>
              <p:nvPr/>
            </p:nvSpPr>
            <p:spPr>
              <a:xfrm>
                <a:off x="1955880" y="622440"/>
                <a:ext cx="1066680" cy="1294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955880" y="881280"/>
                <a:ext cx="106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1955880" y="851040"/>
              <a:ext cx="7012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intf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dll = 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data[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i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55880" y="622440"/>
              <a:ext cx="70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022560" y="11556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470480" y="214596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442280" y="2641320"/>
            <a:ext cx="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470120" y="3213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84680" y="3975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08360" y="428004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080" y="2146320"/>
            <a:ext cx="457200" cy="609480"/>
            <a:chOff x="3556080" y="2146320"/>
            <a:chExt cx="457200" cy="609480"/>
          </a:xfrm>
        </p:grpSpPr>
        <p:sp>
          <p:nvSpPr>
            <p:cNvPr id="75" name=""/>
            <p:cNvSpPr/>
            <p:nvPr/>
          </p:nvSpPr>
          <p:spPr>
            <a:xfrm>
              <a:off x="3784680" y="2146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3556080" y="2451240"/>
              <a:ext cx="457200" cy="304560"/>
              <a:chOff x="3556080" y="2451240"/>
              <a:chExt cx="457200" cy="304560"/>
            </a:xfrm>
          </p:grpSpPr>
          <p:sp>
            <p:nvSpPr>
              <p:cNvPr id="77" name=""/>
              <p:cNvSpPr/>
              <p:nvPr/>
            </p:nvSpPr>
            <p:spPr>
              <a:xfrm>
                <a:off x="3632400" y="2451240"/>
                <a:ext cx="30456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56080" y="245124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ex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3556080" y="2755800"/>
            <a:ext cx="457200" cy="609480"/>
            <a:chOff x="3556080" y="2755800"/>
            <a:chExt cx="457200" cy="609480"/>
          </a:xfrm>
        </p:grpSpPr>
        <p:sp>
          <p:nvSpPr>
            <p:cNvPr id="80" name=""/>
            <p:cNvSpPr/>
            <p:nvPr/>
          </p:nvSpPr>
          <p:spPr>
            <a:xfrm>
              <a:off x="3784680" y="27558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3556080" y="3060720"/>
              <a:ext cx="457200" cy="304560"/>
              <a:chOff x="3556080" y="3060720"/>
              <a:chExt cx="457200" cy="304560"/>
            </a:xfrm>
          </p:grpSpPr>
          <p:sp>
            <p:nvSpPr>
              <p:cNvPr id="82" name=""/>
              <p:cNvSpPr/>
              <p:nvPr/>
            </p:nvSpPr>
            <p:spPr>
              <a:xfrm>
                <a:off x="3632400" y="3060720"/>
                <a:ext cx="30456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56080" y="306072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ex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3556080" y="3365640"/>
            <a:ext cx="457200" cy="609480"/>
            <a:chOff x="3556080" y="3365640"/>
            <a:chExt cx="457200" cy="609480"/>
          </a:xfrm>
        </p:grpSpPr>
        <p:sp>
          <p:nvSpPr>
            <p:cNvPr id="85" name=""/>
            <p:cNvSpPr/>
            <p:nvPr/>
          </p:nvSpPr>
          <p:spPr>
            <a:xfrm>
              <a:off x="3784680" y="3365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556080" y="3670560"/>
              <a:ext cx="457200" cy="304560"/>
              <a:chOff x="3556080" y="3670560"/>
              <a:chExt cx="457200" cy="304560"/>
            </a:xfrm>
          </p:grpSpPr>
          <p:sp>
            <p:nvSpPr>
              <p:cNvPr id="87" name=""/>
              <p:cNvSpPr/>
              <p:nvPr/>
            </p:nvSpPr>
            <p:spPr>
              <a:xfrm>
                <a:off x="3632400" y="3670560"/>
                <a:ext cx="304560" cy="304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56080" y="367056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ex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>
            <a:off x="5232240" y="927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60440" y="19177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117080" y="2755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117440" y="3441600"/>
            <a:ext cx="15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41680" y="191736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5240" y="927000"/>
            <a:ext cx="952200" cy="457200"/>
            <a:chOff x="165240" y="927000"/>
            <a:chExt cx="952200" cy="457200"/>
          </a:xfrm>
        </p:grpSpPr>
        <p:sp>
          <p:nvSpPr>
            <p:cNvPr id="95" name=""/>
            <p:cNvSpPr/>
            <p:nvPr/>
          </p:nvSpPr>
          <p:spPr>
            <a:xfrm>
              <a:off x="279360" y="1003320"/>
              <a:ext cx="72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mod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240" y="927000"/>
              <a:ext cx="952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65240" y="2527200"/>
            <a:ext cx="952200" cy="457200"/>
            <a:chOff x="165240" y="2527200"/>
            <a:chExt cx="952200" cy="457200"/>
          </a:xfrm>
        </p:grpSpPr>
        <p:sp>
          <p:nvSpPr>
            <p:cNvPr id="98" name=""/>
            <p:cNvSpPr/>
            <p:nvPr/>
          </p:nvSpPr>
          <p:spPr>
            <a:xfrm>
              <a:off x="279360" y="2603520"/>
              <a:ext cx="72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5240" y="2527200"/>
              <a:ext cx="952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65240" y="3213000"/>
            <a:ext cx="952200" cy="457200"/>
            <a:chOff x="165240" y="3213000"/>
            <a:chExt cx="952200" cy="457200"/>
          </a:xfrm>
        </p:grpSpPr>
        <p:sp>
          <p:nvSpPr>
            <p:cNvPr id="101" name=""/>
            <p:cNvSpPr/>
            <p:nvPr/>
          </p:nvSpPr>
          <p:spPr>
            <a:xfrm>
              <a:off x="279360" y="3289320"/>
              <a:ext cx="72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5240" y="3213000"/>
              <a:ext cx="952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657760" y="4138560"/>
            <a:ext cx="638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557680" y="4411800"/>
            <a:ext cx="838440" cy="457200"/>
            <a:chOff x="5557680" y="4411800"/>
            <a:chExt cx="838440" cy="457200"/>
          </a:xfrm>
        </p:grpSpPr>
        <p:sp>
          <p:nvSpPr>
            <p:cNvPr id="105" name=""/>
            <p:cNvSpPr/>
            <p:nvPr/>
          </p:nvSpPr>
          <p:spPr>
            <a:xfrm>
              <a:off x="5658120" y="4488120"/>
              <a:ext cx="63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57680" y="4411800"/>
              <a:ext cx="8384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519960" y="4411800"/>
            <a:ext cx="92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Global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19960" y="4005360"/>
            <a:ext cx="92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18040" y="519444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133960"/>
            <a:ext cx="92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7440" y="506520"/>
            <a:ext cx="554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5240" y="277920"/>
            <a:ext cx="952200" cy="457200"/>
            <a:chOff x="165240" y="277920"/>
            <a:chExt cx="952200" cy="457200"/>
          </a:xfrm>
        </p:grpSpPr>
        <p:sp>
          <p:nvSpPr>
            <p:cNvPr id="113" name=""/>
            <p:cNvSpPr/>
            <p:nvPr/>
          </p:nvSpPr>
          <p:spPr>
            <a:xfrm>
              <a:off x="279360" y="354240"/>
              <a:ext cx="72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200" spc="-1" strike="noStrike">
                  <a:solidFill>
                    <a:srgbClr val="000000"/>
                  </a:solidFill>
                  <a:latin typeface="Arial"/>
                </a:rPr>
                <a:t>firstEx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5240" y="277920"/>
              <a:ext cx="952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1480" y="3538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76400" y="506520"/>
            <a:ext cx="554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30440" y="3538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5360" y="506520"/>
            <a:ext cx="554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89400" y="3538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93960" y="506520"/>
            <a:ext cx="554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48000" y="3538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2920" y="506520"/>
            <a:ext cx="554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6960" y="4302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5:39:26Z</dcterms:created>
  <dc:creator>cdg</dc:creator>
  <dc:description/>
  <dc:language>en-US</dc:language>
  <cp:lastModifiedBy>cdg</cp:lastModifiedBy>
  <dcterms:modified xsi:type="dcterms:W3CDTF">2004-04-01T11:51:50Z</dcterms:modified>
  <cp:revision>7</cp:revision>
  <dc:subject/>
  <dc:title>PowerPoint Presentation</dc:title>
</cp:coreProperties>
</file>