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D08-6A81-48ED-8464-52903063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E85-5744-4152-ADA6-7BFB7E4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036-5F5E-4E93-95A5-F50B1D41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B72-5341-4035-B42D-4D9808AD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F500-E88F-483F-ABF2-D73BAE1A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DEDC-5085-4DD3-8081-85ECB483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6A94-46CD-4E01-9F3F-72A6E9A0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1239-B064-4961-9321-9939066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8DD6-0A40-41C5-96A8-30787C3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514-2325-44D9-8EE1-E9ABE7E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D9B5-F223-489D-AD71-3FBB274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EC6-8BB3-43A8-B31B-ED6E8471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1EB-1B52-4B3B-AEAD-052AA6F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9CEA-E341-4056-BE93-E74974F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2D4-977B-4439-9B69-025E603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0097-7BCE-4C7C-B30F-F75E9623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5995-28FA-4887-8C9F-BECF619A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A3-2FE2-48CD-B9F6-4171FD7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DD0-D16F-4FD9-A8A9-0323260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184-D622-4F98-9764-5D699EEB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150-308E-4164-8806-6685410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297-C808-46BE-BF57-EB8F02B2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B70-ADB8-4AA8-B740-BFC2AA0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1B9-20DE-47DF-9A1A-F472705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905040" cy="6858000"/>
              <a:chOff x="0" y="0"/>
              <a:chExt cx="990504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905040" cy="6400800"/>
                <a:chOff x="0" y="304920"/>
                <a:chExt cx="990504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30120" y="0"/>
                <a:ext cx="9244440" cy="6858000"/>
                <a:chOff x="330120" y="0"/>
                <a:chExt cx="924444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90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320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650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31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971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301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63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29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95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612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6273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933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593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254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914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574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632040" y="0"/>
              <a:ext cx="627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7564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48200" y="1415880"/>
              <a:ext cx="1932840" cy="2324160"/>
              <a:chOff x="448200" y="1415880"/>
              <a:chExt cx="193284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48200" y="1513440"/>
                <a:ext cx="193284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4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54400" y="1415880"/>
                <a:ext cx="2088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FAB-1B87-43C2-A612-F0F9001A00C1}" type="datetime">
              <a:rPr b="0" lang="de-DE" sz="1400" spc="-1" strike="noStrike">
                <a:solidFill>
                  <a:srgbClr val="40458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D34-BCD9-4852-80E0-5767AE7E0442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631680" y="0"/>
                <a:ext cx="62737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2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50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11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1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0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31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92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12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7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933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3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254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91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57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95752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7208640" cy="2851200"/>
              <a:chOff x="4680" y="887400"/>
              <a:chExt cx="72086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697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52204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59520" y="1488600"/>
                <a:ext cx="65538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740520" y="13568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544840" y="3098880"/>
              <a:ext cx="6548760" cy="2876400"/>
              <a:chOff x="2544840" y="3098880"/>
              <a:chExt cx="654876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544840" y="5464080"/>
                <a:ext cx="6548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89416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774640" y="53024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2800" y="1752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B8AC-38B7-495B-B97E-FA35EEE9E874}" type="datetime">
              <a:rPr b="0" lang="de-DE" sz="1400" spc="-1" strike="noStrike">
                <a:solidFill>
                  <a:srgbClr val="40458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4D46-97C0-46A0-A4E6-C642E9D05D54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739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BlackBox Component Framework for Linux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374720" y="3505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rnhard Treutwe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anzenmüllerstr. 1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80999 Münch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5AA-D3EA-4911-9CC3-A5411F81B6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2EC78B-809E-47A9-BCEC-0C39710D44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52200" y="45720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660066"/>
                </a:solidFill>
                <a:latin typeface="Arial"/>
              </a:rPr>
              <a:t>License Mode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GPL – GNU Public Licen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GLPL – Library or Lesser GNU Public Licen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BSD Sty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D5B-5FB9-412E-B9D2-6167A1C742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CA5AA-4D97-4B29-9B51-AE49BADA2F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Recommendation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38040" y="2742840"/>
            <a:ext cx="8172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nome 2.0 even when it is not yet re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onobo / CORBA sup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D7A-8122-4930-AE95-1A41BD3D46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C3C8F-016C-4E10-A91C-DC9288E305C7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6960" y="417240"/>
            <a:ext cx="66042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7440" y="1752480"/>
            <a:ext cx="875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s &amp; Cons of Gnome or KDE as basis of a Linux port of the BlackBox Component Frame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o am I, a little bit about my CS background and (non)-edu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C65-39C9-43B4-88A7-58A51D620B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F4AA2-F2C3-4AB8-B7C2-A49846BE6DA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380520"/>
            <a:ext cx="660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Arial Unicode MS"/>
              </a:rPr>
              <a:t>Overview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 – Windows &amp; the History of KDE &amp; Gn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n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Deskto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nome – KDE Interoper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ux Distribution Differe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l License Issu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66A-9E3E-4A01-8BCE-A06B1A307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565D2-FB7C-4F0F-BEBA-8FAF5BB65042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08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The  </a:t>
            </a:r>
            <a:r>
              <a:rPr b="0" lang="en-US" sz="54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660066"/>
                </a:solidFill>
                <a:latin typeface="Arial"/>
              </a:rPr>
              <a:t>-Window System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ransparent client server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op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graphics primi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o much freedom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consistent user interf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112-13D3-43E0-A38A-643716DF1D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F64B0-D524-4BFE-9996-D5D9FC96E929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KDE – K Desktop Environment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API for a consistent user interf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based on TrollTech‘s Qt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t and KDE are implemented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t‘s signal &amp; slot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licensed under the G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258-A66E-49E5-80F6-D458B61875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32630-5712-4246-8211-95EE35683495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Gnome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GNU Network Object Model Environmen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TK+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(Glib, </a:t>
            </a:r>
            <a:r>
              <a:rPr b="0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Gobject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, GDK, </a:t>
            </a:r>
            <a:r>
              <a:rPr b="0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GdkPixbuf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Pango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600" spc="-1" strike="noStrike" u="sng">
                <a:solidFill>
                  <a:srgbClr val="40458c"/>
                </a:solidFill>
                <a:uFillTx/>
                <a:latin typeface="Tahoma"/>
              </a:rPr>
              <a:t>ATK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RBA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(Orbit, Bonobo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ation Language C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un Time Typing, Object Orientation by discipli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icense GLPL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A48-6AD5-4D5B-AFC4-4AFA6D1F07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D9DE2-54C1-4897-9247-D3842E2264FF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60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Other Desktop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fc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ed also on GTK+, sm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cewm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mall &amp; f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lackBox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bas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711-7365-49DD-8872-866206ACA5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060E1-D330-4D26-9E67-32DD6B78ECC2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3040" y="5331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Gnome – KDE Interoperability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3040" y="213372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interoperability is giv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ound documents may be a probl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fferent component architecture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CORBA/Kpart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implementation of similar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644-14C5-4279-A3DA-E02BA057E3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67B61-E5C9-42DE-AA9C-7B7D842073D6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Linux Distribution Differen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Boot mana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Initialization sequ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System library stuf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Localization of configuration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Package managers (RPM 3, 4 and DE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hard Treutwe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05F-BAC8-4BAD-8D65-23FA5D3C94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91E64-F8BD-4DC5-BB21-943B731EC4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nhard</cp:lastModifiedBy>
  <dcterms:modified xsi:type="dcterms:W3CDTF">2001-07-24T19:37:52Z</dcterms:modified>
  <cp:revision>5</cp:revision>
  <dc:subject/>
  <dc:title>PowerPoint-Präsentation</dc:title>
</cp:coreProperties>
</file>