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EC3-A8A1-4C93-8B2B-938EBA15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0AA-456B-46A9-B898-F6EA847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6AD-F678-49A7-9E31-A7804FB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847-C02C-4811-8DC4-B55355B5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F89-4CA7-49FF-B9D6-FA187DC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118-AA8D-477A-834D-2CA81C3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B0A-D0AA-46EF-8029-9995B617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FBD-1077-4D47-A81D-264CF59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80D-B06C-4F49-ADFF-87073522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70F-2BD6-4489-B2AA-871663B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B10-4752-4EAC-8944-D008D7F0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9D3-97BF-4DB4-910F-897F6C1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82080" y="25560"/>
            <a:ext cx="669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b7834"/>
                </a:solidFill>
                <a:latin typeface="Frutiger 45 Light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6200280" y="6552720"/>
            <a:ext cx="1266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8b7834"/>
                </a:solidFill>
                <a:latin typeface="Frutiger 45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600" y="6552720"/>
            <a:ext cx="86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b7834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C95-C355-4BB2-BB51-3283F2D6B745}" type="slidenum">
              <a:rPr b="0" lang="en-US" sz="1200" spc="-1" strike="noStrike">
                <a:solidFill>
                  <a:srgbClr val="8b7834"/>
                </a:solidFill>
                <a:latin typeface="Frutiger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440" y="6553080"/>
            <a:ext cx="540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b7834"/>
                </a:solidFill>
                <a:latin typeface="Frutiger 45 Light"/>
              </a:rPr>
              <a:t>© Oberon microsystems, Inc., Zürich, Switzerland, 2002</a:t>
            </a:r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Frutiger 45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Frutiger 45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Frutiger 45 Light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lackBox for Linux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Bengt Johansson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Oberon microsystems, Inc.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Zürich, Switzerland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www.oberon.ch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HostGnome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mplements Kernel.GuiHook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Message boxes and beep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Override of screen heigh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f linked, loads the necessary Gnome librari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943-FE4F-429E-8954-3E66E1DD8C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Controls vs. GtkWidget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&amp; vs. _ for marking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GtkCheckedMenuItem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RadioButton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Disabled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TreeControls too Windows specific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Ports.dialogBackground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F08-4ABF-42E4-8454-40B25FC60B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Left to Do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Drag’n Drop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Improved copy and paste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Printing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HostCFrames improvment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Mouse messages for disabled controls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Images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HostRegistry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rutiger 45 Light"/>
              </a:rPr>
              <a:t>StdRegistry?</a:t>
            </a:r>
            <a:endParaRPr b="0" lang="en-US" sz="24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55 Roman"/>
              </a:rPr>
              <a:t>SQL and ODBC</a:t>
            </a:r>
            <a:endParaRPr b="0" lang="en-US" sz="28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2CC-69AD-4B1F-98C3-F1C76495CE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Left to Do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Ported modules contain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TODO – section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Implementation Docu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A34-CD81-4F59-8927-34387A3497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Porting Experience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Mostly very positiv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Possible to take one module at a tim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Kernel, HostFiles, HostFonts, HostPorts, HostWindows, HostMenus…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ramework *is* portabl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AB2-7042-4B41-83D6-B2EF1A14EC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Porting Experience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Use of directory object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Documents: Printers.dir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Dialog.platform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mport of Host-modules in portable modules (HostRegistry)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Menu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&amp;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Text menu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E78-FCE9-45F6-82AB-0137FCA7DC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Future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Gnome 2.0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Gtk+ for Windows?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0BB-32BE-48B1-B929-63B4B387C8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Goal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2860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Pointers for anybody that want to work with, or continue the development of, the Linux versio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86C-EDA3-4F9C-B9D0-AC8C69CA83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Overview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Basic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Differenc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683280" indent="-26280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Implementations (BB Windows vs. BB Linux)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683280" indent="-26280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Abstractions (MS Windows vs. Linux/Gnome)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Left to Do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Porting Experienc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utur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BCF-1CB5-44BC-A5C4-18BE889A8E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Basic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nstaller is a zipped tar archive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creen height can be overridden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echo 215 &gt; screenheight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EF8-AB95-4061-9E31-3232CD3E9D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Implementation Difference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Startup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Over a C-program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Special linker: LinLinker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Interface modul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Not automatically generated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One interface module for each library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(two for Libc)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D73-A446-44BF-A47D-56624D9E5A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Message Loops vs. Callback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Windows uses message loops and Gtk+ uses callbacks (signals/events)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Message loops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All code in one place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Unit of change: Message handler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allbacks: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Code spread out in different places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Unit of change: signal/event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463-AE1A-41E2-82A8-8969EFE748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Font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Fonts are specified in more detail in XLFD than on Window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Added the foundry to the typeface abstraction in BlackBox.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Underline not supported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Simple correction in Ports.Draw(S)String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9A-79B5-424F-9A99-0A9C100D14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Differences in Abstractions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Cursor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Pictur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0B4-F062-41BE-9965-FC73B66A84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7834"/>
            </a:gs>
            <a:gs pos="100000">
              <a:srgbClr val="544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rutiger 55 Roman"/>
              </a:rPr>
              <a:t>GUI vs. Non-GUI</a:t>
            </a:r>
            <a:endParaRPr b="0" lang="en-US" sz="4400" spc="-1" strike="noStrike">
              <a:solidFill>
                <a:srgbClr val="ffff99"/>
              </a:solidFill>
              <a:latin typeface="Frutiger 55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X has a clear separation between GUI and non GUI applications – Windows doesn’t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Message boxes in low level modules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Kernel.Beep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Frutiger 55 Roman"/>
              </a:rPr>
              <a:t>Window managers </a:t>
            </a:r>
            <a:endParaRPr b="0" lang="en-US" sz="3200" spc="-1" strike="noStrike">
              <a:solidFill>
                <a:srgbClr val="ffff99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rutiger 45 Light"/>
              </a:rPr>
              <a:t>MDI, AlwaysOnTop</a:t>
            </a:r>
            <a:endParaRPr b="0" lang="en-US" sz="2800" spc="-1" strike="noStrike">
              <a:solidFill>
                <a:srgbClr val="ffff99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lackBox for Linu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A77-0F40-4858-AF08-BE7CD04E0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3.2002</a:t>
            </a: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2:13:41Z</dcterms:created>
  <dc:creator>Bengt Johansson</dc:creator>
  <dc:description/>
  <dc:language>en-US</dc:language>
  <cp:lastModifiedBy>Marc</cp:lastModifiedBy>
  <dcterms:modified xsi:type="dcterms:W3CDTF">2005-05-12T13:33:44Z</dcterms:modified>
  <cp:revision>84</cp:revision>
  <dc:subject/>
  <dc:title>BMW System Architecure Reference Guide</dc:title>
</cp:coreProperties>
</file>