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F02A-CC19-4B18-8E83-CC5B4D410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Frutiger 55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223F-5EB6-40C8-A3BA-0E7E174F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Frutiger 55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7CEE-F23C-40F9-9962-F61A15618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Frutiger 55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1627-775F-42BA-A2A4-31FFD0FFC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Frutiger 55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Frutiger 55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Frutiger 55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Frutiger 55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Frutiger 55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Frutiger 55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B73B-2978-4BCF-8EE7-701626C3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Frutiger 55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Frutiger 55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Frutiger 55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Frutiger 55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Frutiger 55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Frutiger 55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676A-2AA1-453B-B8E1-E40B77F2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Frutiger 55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F69C-AB6A-4C2A-9BBA-4B276B60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Frutiger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C602-33D5-4A2E-A00E-CD6B47DD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FAFD-F965-4442-AE20-6822633D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Frutiger 55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22EC-2E59-4E87-9050-A1B3E410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Frutiger 55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E211-3B1F-4C72-9DCC-630BE3F7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Frutiger 55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C5CA-689D-44A4-93FF-7D0656A6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b9b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9360"/>
            <a:ext cx="916272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6858000" y="9360"/>
            <a:ext cx="2178000" cy="514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>
          <a:xfrm>
            <a:off x="82080" y="25560"/>
            <a:ext cx="66992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Frutiger 45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utiger 45 Light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Frutiger 55 Roman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Frutiger 45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Frutiger 45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Frutiger 45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6200280" y="6552720"/>
            <a:ext cx="1266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ffffff"/>
                </a:solidFill>
                <a:latin typeface="Frutiger 45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CC5D-FA20-44E3-B374-731DFD890A47}" type="datetime">
              <a:rPr b="0" lang="de-CH" sz="1200" spc="-1" strike="noStrike">
                <a:solidFill>
                  <a:srgbClr val="ffffff"/>
                </a:solidFill>
                <a:latin typeface="Frutiger 45 Light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29600" y="6552720"/>
            <a:ext cx="86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utiger 45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98E4-BECC-4895-A664-673AB1707031}" type="slidenum">
              <a:rPr b="0" lang="en-US" sz="1200" spc="-1" strike="noStrike">
                <a:solidFill>
                  <a:srgbClr val="ffffff"/>
                </a:solidFill>
                <a:latin typeface="Frutiger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2440" y="6553080"/>
            <a:ext cx="540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 45 Light"/>
              </a:rPr>
              <a:t>© Oberon microsystems, Inc., Zürich, Switzerland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b9b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9360" y="-9360"/>
            <a:ext cx="916272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Frutiger 55 Roman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Frutiger 55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58000" y="9360"/>
            <a:ext cx="2178000" cy="514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rutiger 45 Light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Frutiger 45 Ligh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utiger 45 Light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Frutiger 45 Ligh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utiger 45 Ligh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Frutiger 45 Ligh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utiger 45 Ligh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Frutiger 45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utiger 45 Ligh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Frutiger 45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b9b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800" spc="-1" strike="noStrike">
                <a:solidFill>
                  <a:srgbClr val="0000cc"/>
                </a:solidFill>
                <a:latin typeface="Frutiger 55 Roman"/>
              </a:rPr>
              <a:t>DevElfLinker</a:t>
            </a:r>
            <a:endParaRPr b="0" lang="en-US" sz="4800" spc="-1" strike="noStrike">
              <a:solidFill>
                <a:srgbClr val="0000cc"/>
              </a:solidFill>
              <a:latin typeface="Frutiger 55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cdg, mf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Oberon microsystems, Inc.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Zürich, Switzerland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www.oberon.ch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p:transition>
    <p:pull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b9b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cc"/>
                </a:solidFill>
                <a:latin typeface="Frutiger 55 Roman"/>
              </a:rPr>
              <a:t>Library Formats</a:t>
            </a:r>
            <a:endParaRPr b="0" lang="en-US" sz="4400" spc="-1" strike="noStrike">
              <a:solidFill>
                <a:srgbClr val="0000cc"/>
              </a:solidFill>
              <a:latin typeface="Frutiger 55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Frutiger 55 Roman"/>
              </a:rPr>
              <a:t>Flip chart...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Frutiger 55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Frutiger 55 Roman"/>
              </a:rPr>
              <a:t>Specification docs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Frutiger 45 Light"/>
              </a:rPr>
              <a:t>PE/COFF</a:t>
            </a:r>
            <a:endParaRPr b="0" lang="en-US" sz="2800" spc="-1" strike="noStrike">
              <a:solidFill>
                <a:srgbClr val="000000"/>
              </a:solidFill>
              <a:latin typeface="Frutiger 45 Ligh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Frutiger 45 Light"/>
              </a:rPr>
              <a:t>ELF</a:t>
            </a:r>
            <a:endParaRPr b="0" lang="en-US" sz="2800" spc="-1" strike="noStrike">
              <a:solidFill>
                <a:srgbClr val="000000"/>
              </a:solidFill>
              <a:latin typeface="Frutiger 45 Ligh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Frutiger 45 Light"/>
              </a:rPr>
              <a:t>BlackBox Code File</a:t>
            </a:r>
            <a:endParaRPr b="0" lang="en-US" sz="2800" spc="-1" strike="noStrike">
              <a:solidFill>
                <a:srgbClr val="000000"/>
              </a:solidFill>
              <a:latin typeface="Frutiger 45 Ligh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Frutiger 55 Roman"/>
              </a:rPr>
              <a:t>DLL vs. EXE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esentation Tit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9836-1234-4C23-9387-94AFA79D16C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6E5E183-9C6D-48B7-8880-F894267B9F43}" type="datetime1">
              <a:rPr lang="en-US"/>
              <a:t>07/29/26</a:t>
            </a:fld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b9b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cc"/>
                </a:solidFill>
                <a:latin typeface="Frutiger 55 Roman"/>
              </a:rPr>
              <a:t>Tools 1</a:t>
            </a:r>
            <a:endParaRPr b="0" lang="en-US" sz="4400" spc="-1" strike="noStrike">
              <a:solidFill>
                <a:srgbClr val="0000cc"/>
              </a:solidFill>
              <a:latin typeface="Frutiger 55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8000" y="1300320"/>
            <a:ext cx="882000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utiger 45 Light"/>
              </a:rPr>
              <a:t>gcc &amp; 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The GNU C compiler and link editor. With these tools it is fairly easy to build shared object libraries to be used as a compar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gcc -c file.c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just compiles the given file into an object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ld -shared -soname libname -o libname file.o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generates a shared object library from the given object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esentation Tit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42BE-44F6-435A-A5C2-F4981346BAA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206E0A6-AF1D-42B2-8AA8-7EB8573EB351}" type="datetime1">
              <a:rPr lang="en-US"/>
              <a:t>07/29/26</a:t>
            </a:fld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b9b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cc"/>
                </a:solidFill>
                <a:latin typeface="Frutiger 55 Roman"/>
              </a:rPr>
              <a:t>Tools 2</a:t>
            </a:r>
            <a:endParaRPr b="0" lang="en-US" sz="4400" spc="-1" strike="noStrike">
              <a:solidFill>
                <a:srgbClr val="0000cc"/>
              </a:solidFill>
              <a:latin typeface="Frutiger 55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1773360"/>
            <a:ext cx="835344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utiger 45 Light"/>
              </a:rPr>
              <a:t>read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This tool can read and display information about an ELF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readelf -a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displays information about everything in the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readelf -x n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(where n is a section index) dumps the content of the given section in h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esentation Tit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9CBC-26CD-4CEF-8F5D-194C39E99A8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740584A-13B5-420C-9100-9542F02CF435}" type="datetime1">
              <a:rPr lang="en-US"/>
              <a:t>07/29/26</a:t>
            </a:fld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b9b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cc"/>
                </a:solidFill>
                <a:latin typeface="Frutiger 55 Roman"/>
              </a:rPr>
              <a:t>Tools 3</a:t>
            </a:r>
            <a:endParaRPr b="0" lang="en-US" sz="4400" spc="-1" strike="noStrike">
              <a:solidFill>
                <a:srgbClr val="0000cc"/>
              </a:solidFill>
              <a:latin typeface="Frutiger 55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2920" y="1515960"/>
            <a:ext cx="885672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utiger 45 Light"/>
              </a:rPr>
              <a:t>objdu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Dumps the content of an ELF file. Optionally it can give the assembler instruction of the executable part of the libr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objdump -s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dumps the content (in hex) of all the sections of the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objdump -d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shows the disassembly of the executable parts whith their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esentation Tit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8980-FB58-4EB1-A74E-5F59F361931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153707D-7151-4501-B0A0-3ECE679F4867}" type="datetime1">
              <a:rPr lang="en-US"/>
              <a:t>07/29/26</a:t>
            </a:fld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b9b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cc"/>
                </a:solidFill>
                <a:latin typeface="Frutiger 55 Roman"/>
              </a:rPr>
              <a:t>Tools 4</a:t>
            </a:r>
            <a:endParaRPr b="0" lang="en-US" sz="4400" spc="-1" strike="noStrike">
              <a:solidFill>
                <a:srgbClr val="0000cc"/>
              </a:solidFill>
              <a:latin typeface="Frutiger 55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Frutiger 55 Roman"/>
              </a:rPr>
              <a:t>BB on Linux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esentation Tit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40C1-DC89-4047-9C72-FA86C1D8125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DF90260-0A50-41E4-8DCB-7E8310726457}" type="datetime1">
              <a:rPr lang="en-US"/>
              <a:t>07/29/26</a:t>
            </a:fld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b9b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cc"/>
                </a:solidFill>
                <a:latin typeface="Frutiger 55 Roman"/>
              </a:rPr>
              <a:t>Difficulties</a:t>
            </a:r>
            <a:endParaRPr b="0" lang="en-US" sz="4400" spc="-1" strike="noStrike">
              <a:solidFill>
                <a:srgbClr val="0000cc"/>
              </a:solidFill>
              <a:latin typeface="Frutiger 55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Frutiger 55 Roman"/>
              </a:rPr>
              <a:t>Strategy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Frutiger 45 Light"/>
              </a:rPr>
              <a:t>separation into phases</a:t>
            </a:r>
            <a:endParaRPr b="0" lang="en-US" sz="2800" spc="-1" strike="noStrike">
              <a:solidFill>
                <a:srgbClr val="000000"/>
              </a:solidFill>
              <a:latin typeface="Frutiger 45 Ligh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Frutiger 55 Roman"/>
              </a:rPr>
              <a:t>Picture of the final locations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Frutiger 55 Roman"/>
              </a:rPr>
              <a:t>Relocations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esentation Tit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C169-6BCE-47EF-A55D-487D2B5D6E7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B8260F7-97EF-4216-A6B0-7D3D0E00C25D}" type="datetime1">
              <a:rPr lang="en-US"/>
              <a:t>07/29/26</a:t>
            </a:fld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b9b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Frutiger 55 Roman"/>
              </a:rPr>
              <a:t>Relocations</a:t>
            </a:r>
            <a:br>
              <a:rPr sz="4000"/>
            </a:br>
            <a:endParaRPr b="0" lang="en-US" sz="4000" spc="-1" strike="noStrike">
              <a:solidFill>
                <a:srgbClr val="0000cc"/>
              </a:solidFill>
              <a:latin typeface="Frutiger 55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55 Roman"/>
              </a:rPr>
              <a:t>External library call into separate shared library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55 Roman"/>
              </a:rPr>
              <a:t>Call target address is unknown at compile time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55 Roman"/>
              </a:rPr>
              <a:t>Compiler writes relocation information instead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55 Roman"/>
              </a:rPr>
              <a:t>DevLinker/DevElfLinker translate BB reloc-info into target platform reloc-info or resolve internally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55 Roman"/>
              </a:rPr>
              <a:t>Relocations must be resolved by loader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esentation Tit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3BF5-0240-42F6-A7C8-AD441A5B947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012D6A7-03BF-4B72-9844-393289205C3E}" type="datetime1">
              <a:rPr lang="en-US"/>
              <a:t>07/29/26</a:t>
            </a:fld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b9b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Frutiger 55 Roman"/>
              </a:rPr>
              <a:t>Relocations</a:t>
            </a: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Frutiger 55 Roman"/>
              </a:rPr>
              <a:t> Simplified Example: call printf</a:t>
            </a:r>
            <a:endParaRPr b="0" lang="en-US" sz="4000" spc="-1" strike="noStrike">
              <a:solidFill>
                <a:srgbClr val="0000cc"/>
              </a:solidFill>
              <a:latin typeface="Frutiger 55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Frutiger 55 Roman"/>
              </a:rPr>
              <a:t>Enter procedure printf into symbol table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utiger 45 Light"/>
              </a:rPr>
              <a:t>symbol</a:t>
            </a:r>
            <a:r>
              <a:rPr b="0" lang="de-CH" sz="2400" spc="-1" strike="noStrike">
                <a:solidFill>
                  <a:srgbClr val="000000"/>
                </a:solidFill>
                <a:latin typeface="Frutiger 45 Light"/>
              </a:rPr>
              <a:t>: „printf“</a:t>
            </a:r>
            <a:endParaRPr b="0" lang="en-US" sz="2400" spc="-1" strike="noStrike">
              <a:solidFill>
                <a:srgbClr val="000000"/>
              </a:solidFill>
              <a:latin typeface="Frutiger 45 Ligh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utiger 45 Light"/>
              </a:rPr>
              <a:t>call target adress</a:t>
            </a:r>
            <a:r>
              <a:rPr b="0" lang="de-CH" sz="2400" spc="-1" strike="noStrike">
                <a:solidFill>
                  <a:srgbClr val="000000"/>
                </a:solidFill>
                <a:latin typeface="Frutiger 45 Light"/>
              </a:rPr>
              <a:t>: initially NIL; set by loader at loading time </a:t>
            </a:r>
            <a:endParaRPr b="0" lang="en-US" sz="2400" spc="-1" strike="noStrike">
              <a:solidFill>
                <a:srgbClr val="000000"/>
              </a:solidFill>
              <a:latin typeface="Frutiger 45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Frutiger 55 Roman"/>
              </a:rPr>
              <a:t>Enter relocation in relocation table: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utiger 45 Light"/>
              </a:rPr>
              <a:t>offset</a:t>
            </a:r>
            <a:r>
              <a:rPr b="0" lang="de-CH" sz="2400" spc="-1" strike="noStrike">
                <a:solidFill>
                  <a:srgbClr val="000000"/>
                </a:solidFill>
                <a:latin typeface="Frutiger 45 Light"/>
              </a:rPr>
              <a:t> in code</a:t>
            </a:r>
            <a:endParaRPr b="0" lang="en-US" sz="2400" spc="-1" strike="noStrike">
              <a:solidFill>
                <a:srgbClr val="000000"/>
              </a:solidFill>
              <a:latin typeface="Frutiger 45 Ligh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utiger 45 Light"/>
              </a:rPr>
              <a:t>type</a:t>
            </a:r>
            <a:r>
              <a:rPr b="0" lang="de-CH" sz="2400" spc="-1" strike="noStrike">
                <a:solidFill>
                  <a:srgbClr val="000000"/>
                </a:solidFill>
                <a:latin typeface="Frutiger 45 Light"/>
              </a:rPr>
              <a:t>: „via symbol table“</a:t>
            </a:r>
            <a:endParaRPr b="0" lang="en-US" sz="2400" spc="-1" strike="noStrike">
              <a:solidFill>
                <a:srgbClr val="000000"/>
              </a:solidFill>
              <a:latin typeface="Frutiger 45 Ligh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utiger 45 Light"/>
              </a:rPr>
              <a:t>symbol</a:t>
            </a:r>
            <a:r>
              <a:rPr b="0" lang="de-CH" sz="2400" spc="-1" strike="noStrike">
                <a:solidFill>
                  <a:srgbClr val="000000"/>
                </a:solidFill>
                <a:latin typeface="Frutiger 45 Light"/>
              </a:rPr>
              <a:t> index</a:t>
            </a:r>
            <a:endParaRPr b="0" lang="en-US" sz="2400" spc="-1" strike="noStrike">
              <a:solidFill>
                <a:srgbClr val="000000"/>
              </a:solidFill>
              <a:latin typeface="Frutiger 45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Frutiger 55 Roman"/>
              </a:rPr>
              <a:t>in code:</a:t>
            </a:r>
            <a:br>
              <a:rPr sz="2800"/>
            </a:br>
            <a:r>
              <a:rPr b="0" lang="de-CH" sz="2800" spc="-1" strike="noStrike">
                <a:solidFill>
                  <a:srgbClr val="000000"/>
                </a:solidFill>
                <a:latin typeface="Frutiger 55 Roman"/>
              </a:rPr>
              <a:t>call [via symbol table]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esentation Tit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A892-2734-455F-A08D-BEB9C706ECC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EB864D9-6459-4C50-A301-3EBE80B80D5A}" type="datetime1">
              <a:rPr lang="en-US"/>
              <a:t>07/29/26</a:t>
            </a:fld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b9b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Frutiger 55 Roman"/>
              </a:rPr>
              <a:t>Boot Loader</a:t>
            </a:r>
            <a:endParaRPr b="0" lang="en-US" sz="4400" spc="-1" strike="noStrike">
              <a:solidFill>
                <a:srgbClr val="0000cc"/>
              </a:solidFill>
              <a:latin typeface="Frutiger 55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Simple linker/packer (LinLinker)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Simple C-program to load packed modules and start the Kern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esentation Tit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B367-4844-4EEE-9ED7-2AB03A80341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20506EE-C567-4074-81C2-EA4CF0235F79}" type="datetime1">
              <a:rPr lang="en-US"/>
              <a:t>07/29/26</a:t>
            </a:fld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b9b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Frutiger 55 Roman"/>
              </a:rPr>
              <a:t>Boot Loader (LinLinker)</a:t>
            </a:r>
            <a:endParaRPr b="0" lang="en-US" sz="4400" spc="-1" strike="noStrike">
              <a:solidFill>
                <a:srgbClr val="0000cc"/>
              </a:solidFill>
              <a:latin typeface="Frutiger 55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42240" y="4267080"/>
            <a:ext cx="65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utiger 45 Light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43200" y="1447920"/>
            <a:ext cx="1143000" cy="5331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Frutiger 45 Light"/>
              </a:rPr>
              <a:t>File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1447920"/>
            <a:ext cx="1143000" cy="5331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Frutiger 45 Light"/>
              </a:rPr>
              <a:t>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43200" y="1981080"/>
            <a:ext cx="1828800" cy="5335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Frutiger 45 Light"/>
              </a:rPr>
              <a:t>Kernel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1981080"/>
            <a:ext cx="1828800" cy="5335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Frutiger 45 Light"/>
              </a:rPr>
              <a:t>Main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2514600"/>
            <a:ext cx="1828800" cy="5335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Frutiger 45 Light"/>
              </a:rPr>
              <a:t>NewR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2516040"/>
            <a:ext cx="1828800" cy="5335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Frutiger 45 Light"/>
              </a:rPr>
              <a:t>NewA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3048120"/>
            <a:ext cx="3657600" cy="114300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Frutiger 45 Light"/>
              </a:rPr>
              <a:t>Object fil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5334120"/>
            <a:ext cx="3657600" cy="114300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Frutiger 45 Light"/>
              </a:rPr>
              <a:t>Object file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4191120"/>
            <a:ext cx="3657600" cy="38088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10800000">
            <a:off x="2743200" y="4952520"/>
            <a:ext cx="3657600" cy="38124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29200" y="1447920"/>
            <a:ext cx="1371600" cy="5331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Frutiger 45 Light"/>
              </a:rPr>
              <a:t>NofM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esentation Tit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F469-FAE6-4A82-99E9-9DA427FADDC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0CC138C-BE31-432A-B261-875E1647AD32}" type="datetime1">
              <a:rPr lang="en-US"/>
              <a:t>07/29/26</a:t>
            </a:fld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b9b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cc"/>
                </a:solidFill>
                <a:latin typeface="Frutiger 55 Roman"/>
              </a:rPr>
              <a:t>Contents</a:t>
            </a:r>
            <a:endParaRPr b="0" lang="en-US" sz="4400" spc="-1" strike="noStrike">
              <a:solidFill>
                <a:srgbClr val="0000cc"/>
              </a:solidFill>
              <a:latin typeface="Frutiger 55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Frutiger 55 Roman"/>
              </a:rPr>
              <a:t>Overview (-&gt; flip chart)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Frutiger 55 Roman"/>
              </a:rPr>
              <a:t>Linker structure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Frutiger 45 Light"/>
              </a:rPr>
              <a:t>separation into phases</a:t>
            </a:r>
            <a:endParaRPr b="0" lang="en-US" sz="2400" spc="-1" strike="noStrike">
              <a:solidFill>
                <a:srgbClr val="000000"/>
              </a:solidFill>
              <a:latin typeface="Frutiger 45 Light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Frutiger 55 Roman"/>
              </a:rPr>
              <a:t>Library formats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Frutiger 45 Light"/>
              </a:rPr>
              <a:t>Specification documents</a:t>
            </a:r>
            <a:endParaRPr b="0" lang="en-US" sz="2400" spc="-1" strike="noStrike">
              <a:solidFill>
                <a:srgbClr val="000000"/>
              </a:solidFill>
              <a:latin typeface="Frutiger 45 Light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Frutiger 45 Light"/>
              </a:rPr>
              <a:t>DLL vs EXE</a:t>
            </a:r>
            <a:endParaRPr b="0" lang="en-US" sz="2400" spc="-1" strike="noStrike">
              <a:solidFill>
                <a:srgbClr val="000000"/>
              </a:solidFill>
              <a:latin typeface="Frutiger 45 Light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Frutiger 55 Roman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Frutiger 55 Roman"/>
              </a:rPr>
              <a:t>Difficulties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Frutiger 45 Light"/>
              </a:rPr>
              <a:t>strategy</a:t>
            </a:r>
            <a:endParaRPr b="0" lang="en-US" sz="2400" spc="-1" strike="noStrike">
              <a:solidFill>
                <a:srgbClr val="000000"/>
              </a:solidFill>
              <a:latin typeface="Frutiger 45 Light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Frutiger 45 Light"/>
              </a:rPr>
              <a:t>library layout</a:t>
            </a:r>
            <a:endParaRPr b="0" lang="en-US" sz="2400" spc="-1" strike="noStrike">
              <a:solidFill>
                <a:srgbClr val="000000"/>
              </a:solidFill>
              <a:latin typeface="Frutiger 45 Light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Frutiger 45 Light"/>
              </a:rPr>
              <a:t>relocations</a:t>
            </a:r>
            <a:endParaRPr b="0" lang="en-US" sz="2400" spc="-1" strike="noStrike">
              <a:solidFill>
                <a:srgbClr val="000000"/>
              </a:solidFill>
              <a:latin typeface="Frutiger 45 Light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Frutiger 55 Roman"/>
              </a:rPr>
              <a:t>[LinLinker, bj]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esentation Tit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DB6B-0132-40EE-8567-35D54EA8E5C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2230904-356A-46B7-A5EF-2F7005DE6612}" type="datetime1">
              <a:rPr lang="en-US"/>
              <a:t>07/29/26</a:t>
            </a:fld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b9b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Frutiger 55 Roman"/>
              </a:rPr>
              <a:t>Boot Loader (C program)</a:t>
            </a:r>
            <a:endParaRPr b="0" lang="en-US" sz="4400" spc="-1" strike="noStrike">
              <a:solidFill>
                <a:srgbClr val="0000cc"/>
              </a:solidFill>
              <a:latin typeface="Frutiger 55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Reads the boot file from LinLinker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Loads modules in the same fashion as StdLoader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Finds kernel module for relocations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Finds main module and calls its body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esentation Tit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E455-BFB3-4302-A885-AB179FD47B4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2AEFB96-AFC6-4354-85EC-91121FDD6DF9}" type="datetime1">
              <a:rPr lang="en-US"/>
              <a:t>07/29/26</a:t>
            </a:fld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b9b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cc"/>
                </a:solidFill>
                <a:latin typeface="Frutiger 55 Roman"/>
              </a:rPr>
              <a:t>Linker Structure</a:t>
            </a:r>
            <a:endParaRPr b="0" lang="en-US" sz="4400" spc="-1" strike="noStrike">
              <a:solidFill>
                <a:srgbClr val="0000cc"/>
              </a:solidFill>
              <a:latin typeface="Frutiger 55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Frutiger 55 Roman"/>
              </a:rPr>
              <a:t>Front-end, Back-end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Frutiger 55 Roman"/>
              </a:rPr>
              <a:t>3 + 1 Phases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Frutiger 55 Roman"/>
              </a:rPr>
              <a:t>DevElfLinker: Fourth phase will be eliminated...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esentation Tit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C5D7-0D61-4F16-94E3-7B5F4E4C7B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B8D3D8C-C112-4076-BE05-36D0A42E814E}" type="datetime1">
              <a:rPr lang="en-US"/>
              <a:t>07/29/26</a:t>
            </a:fld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b9b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cc"/>
                </a:solidFill>
                <a:latin typeface="Frutiger 55 Roman"/>
              </a:rPr>
              <a:t>1</a:t>
            </a:r>
            <a:r>
              <a:rPr b="0" lang="de-CH" sz="4400" spc="-1" strike="noStrike" baseline="30000">
                <a:solidFill>
                  <a:srgbClr val="0000cc"/>
                </a:solidFill>
                <a:latin typeface="Frutiger 55 Roman"/>
              </a:rPr>
              <a:t>st</a:t>
            </a:r>
            <a:r>
              <a:rPr b="0" lang="de-CH" sz="4400" spc="-1" strike="noStrike">
                <a:solidFill>
                  <a:srgbClr val="0000cc"/>
                </a:solidFill>
                <a:latin typeface="Frutiger 55 Roman"/>
              </a:rPr>
              <a:t> Phase</a:t>
            </a:r>
            <a:endParaRPr b="0" lang="en-US" sz="4400" spc="-1" strike="noStrike">
              <a:solidFill>
                <a:srgbClr val="0000cc"/>
              </a:solidFill>
              <a:latin typeface="Frutiger 55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Frutiger 55 Roman"/>
              </a:rPr>
              <a:t>Build module data structure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Frutiger 55 Roman"/>
              </a:rPr>
              <a:t>Target format independent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esentation Tit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4DE9-F7D8-4BF1-A633-902419D3F6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D86235C-305B-415A-9012-6882CB6FB361}" type="datetime1">
              <a:rPr lang="en-US"/>
              <a:t>07/29/26</a:t>
            </a:fld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b9b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50920" y="907920"/>
            <a:ext cx="8641800" cy="5349960"/>
            <a:chOff x="250920" y="907920"/>
            <a:chExt cx="8641800" cy="5349960"/>
          </a:xfrm>
        </p:grpSpPr>
        <p:sp>
          <p:nvSpPr>
            <p:cNvPr id="93" name=""/>
            <p:cNvSpPr/>
            <p:nvPr/>
          </p:nvSpPr>
          <p:spPr>
            <a:xfrm>
              <a:off x="5231520" y="1503720"/>
              <a:ext cx="59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71040" y="1503720"/>
              <a:ext cx="766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37480" y="1418760"/>
              <a:ext cx="169920" cy="16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14720" y="1503720"/>
              <a:ext cx="93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34320" y="3036960"/>
              <a:ext cx="93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6934320" y="2355480"/>
              <a:ext cx="0" cy="68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871040" y="2909520"/>
              <a:ext cx="340200" cy="255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211600" y="2909520"/>
              <a:ext cx="340560" cy="255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552160" y="2909520"/>
              <a:ext cx="340560" cy="255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4039560" y="907920"/>
              <a:ext cx="1191240" cy="1702440"/>
              <a:chOff x="4039560" y="907920"/>
              <a:chExt cx="1191240" cy="170244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4039560" y="907920"/>
                <a:ext cx="1191240" cy="1702440"/>
                <a:chOff x="4039560" y="907920"/>
                <a:chExt cx="1191240" cy="170244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4039560" y="907920"/>
                  <a:ext cx="1191240" cy="17024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039560" y="1248120"/>
                  <a:ext cx="1191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" name=""/>
              <p:cNvSpPr/>
              <p:nvPr/>
            </p:nvSpPr>
            <p:spPr>
              <a:xfrm>
                <a:off x="4039560" y="1208160"/>
                <a:ext cx="78336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CH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CH" sz="1200" spc="-1" strike="noStrike">
                    <a:solidFill>
                      <a:srgbClr val="000000"/>
                    </a:solidFill>
                    <a:latin typeface="Arial"/>
                  </a:rPr>
                  <a:t>intf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CH" sz="1200" spc="-1" strike="noStrike">
                    <a:solidFill>
                      <a:srgbClr val="000000"/>
                    </a:solidFill>
                    <a:latin typeface="Arial"/>
                  </a:rPr>
                  <a:t>dll = 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CH" sz="1200" spc="-1" strike="noStrike">
                    <a:solidFill>
                      <a:srgbClr val="000000"/>
                    </a:solidFill>
                    <a:latin typeface="Arial"/>
                  </a:rPr>
                  <a:t>data[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CH" sz="1200" spc="-1" strike="noStrike">
                    <a:solidFill>
                      <a:srgbClr val="000000"/>
                    </a:solidFill>
                    <a:latin typeface="Arial"/>
                  </a:rPr>
                  <a:t>im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CH" sz="1200" spc="-1" strike="noStrike">
                    <a:solidFill>
                      <a:srgbClr val="000000"/>
                    </a:solidFill>
                    <a:latin typeface="Arial"/>
                  </a:rPr>
                  <a:t>ex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039560" y="907920"/>
                <a:ext cx="783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CH" sz="1400" spc="-1" strike="noStrike">
                    <a:solidFill>
                      <a:srgbClr val="000000"/>
                    </a:solidFill>
                    <a:latin typeface="Arial"/>
                  </a:rPr>
                  <a:t>Modu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678720" y="907920"/>
              <a:ext cx="1191600" cy="1446840"/>
              <a:chOff x="6678720" y="907920"/>
              <a:chExt cx="1191600" cy="144684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6678720" y="907920"/>
                <a:ext cx="1191600" cy="1446840"/>
                <a:chOff x="6678720" y="907920"/>
                <a:chExt cx="1191600" cy="1446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6678720" y="907920"/>
                  <a:ext cx="1191600" cy="14468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678720" y="1197000"/>
                  <a:ext cx="1191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" name=""/>
              <p:cNvSpPr/>
              <p:nvPr/>
            </p:nvSpPr>
            <p:spPr>
              <a:xfrm>
                <a:off x="6678720" y="1163160"/>
                <a:ext cx="7837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CH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CH" sz="1200" spc="-1" strike="noStrike">
                    <a:solidFill>
                      <a:srgbClr val="000000"/>
                    </a:solidFill>
                    <a:latin typeface="Arial"/>
                  </a:rPr>
                  <a:t>intf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CH" sz="1200" spc="-1" strike="noStrike">
                    <a:solidFill>
                      <a:srgbClr val="000000"/>
                    </a:solidFill>
                    <a:latin typeface="Arial"/>
                  </a:rPr>
                  <a:t>dll = 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CH" sz="1200" spc="-1" strike="noStrike">
                    <a:solidFill>
                      <a:srgbClr val="000000"/>
                    </a:solidFill>
                    <a:latin typeface="Arial"/>
                  </a:rPr>
                  <a:t>data[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CH" sz="1200" spc="-1" strike="noStrike">
                    <a:solidFill>
                      <a:srgbClr val="000000"/>
                    </a:solidFill>
                    <a:latin typeface="Arial"/>
                  </a:rPr>
                  <a:t>im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678720" y="907920"/>
                <a:ext cx="783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CH" sz="1400" spc="-1" strike="noStrike">
                    <a:solidFill>
                      <a:srgbClr val="000000"/>
                    </a:solidFill>
                    <a:latin typeface="Arial"/>
                  </a:rPr>
                  <a:t>Modu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2251440" y="907920"/>
              <a:ext cx="1191240" cy="1446840"/>
              <a:chOff x="2251440" y="907920"/>
              <a:chExt cx="1191240" cy="144684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2251440" y="907920"/>
                <a:ext cx="1191240" cy="1446840"/>
                <a:chOff x="2251440" y="907920"/>
                <a:chExt cx="1191240" cy="144684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2251440" y="907920"/>
                  <a:ext cx="1191240" cy="14468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251440" y="1197000"/>
                  <a:ext cx="1191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" name=""/>
              <p:cNvSpPr/>
              <p:nvPr/>
            </p:nvSpPr>
            <p:spPr>
              <a:xfrm>
                <a:off x="2251440" y="1163160"/>
                <a:ext cx="78336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CH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CH" sz="1200" spc="-1" strike="noStrike">
                    <a:solidFill>
                      <a:srgbClr val="000000"/>
                    </a:solidFill>
                    <a:latin typeface="Arial"/>
                  </a:rPr>
                  <a:t>intf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CH" sz="1200" spc="-1" strike="noStrike">
                    <a:solidFill>
                      <a:srgbClr val="000000"/>
                    </a:solidFill>
                    <a:latin typeface="Arial"/>
                  </a:rPr>
                  <a:t>dll = 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CH" sz="1200" spc="-1" strike="noStrike">
                    <a:solidFill>
                      <a:srgbClr val="000000"/>
                    </a:solidFill>
                    <a:latin typeface="Arial"/>
                  </a:rPr>
                  <a:t>data[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CH" sz="1200" spc="-1" strike="noStrike">
                    <a:solidFill>
                      <a:srgbClr val="000000"/>
                    </a:solidFill>
                    <a:latin typeface="Arial"/>
                  </a:rPr>
                  <a:t>im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51440" y="907920"/>
                <a:ext cx="783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CH" sz="1400" spc="-1" strike="noStrike">
                    <a:solidFill>
                      <a:srgbClr val="000000"/>
                    </a:solidFill>
                    <a:latin typeface="Arial"/>
                  </a:rPr>
                  <a:t>Modu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3443400" y="1503720"/>
              <a:ext cx="59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5061240" y="2611080"/>
              <a:ext cx="0" cy="119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8381880" y="3164400"/>
              <a:ext cx="0" cy="63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5061240" y="3803400"/>
              <a:ext cx="3320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95160" y="4655520"/>
              <a:ext cx="0" cy="340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209840" y="4996440"/>
              <a:ext cx="169920" cy="16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039560" y="2611080"/>
              <a:ext cx="510120" cy="680400"/>
              <a:chOff x="4039560" y="2611080"/>
              <a:chExt cx="510120" cy="680400"/>
            </a:xfrm>
          </p:grpSpPr>
          <p:sp>
            <p:nvSpPr>
              <p:cNvPr id="127" name=""/>
              <p:cNvSpPr/>
              <p:nvPr/>
            </p:nvSpPr>
            <p:spPr>
              <a:xfrm>
                <a:off x="4294800" y="2611080"/>
                <a:ext cx="0" cy="340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4039560" y="2951640"/>
                <a:ext cx="510120" cy="339840"/>
                <a:chOff x="4039560" y="2951640"/>
                <a:chExt cx="510120" cy="3398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124520" y="2951640"/>
                  <a:ext cx="339840" cy="3398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039560" y="2951640"/>
                  <a:ext cx="510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CH" sz="1400" spc="-1" strike="noStrike">
                      <a:solidFill>
                        <a:srgbClr val="000000"/>
                      </a:solidFill>
                      <a:latin typeface="Arial"/>
                    </a:rPr>
                    <a:t>ex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" name=""/>
            <p:cNvGrpSpPr/>
            <p:nvPr/>
          </p:nvGrpSpPr>
          <p:grpSpPr>
            <a:xfrm>
              <a:off x="4039560" y="3292560"/>
              <a:ext cx="510120" cy="680760"/>
              <a:chOff x="4039560" y="3292560"/>
              <a:chExt cx="510120" cy="680760"/>
            </a:xfrm>
          </p:grpSpPr>
          <p:sp>
            <p:nvSpPr>
              <p:cNvPr id="132" name=""/>
              <p:cNvSpPr/>
              <p:nvPr/>
            </p:nvSpPr>
            <p:spPr>
              <a:xfrm>
                <a:off x="4294800" y="3292560"/>
                <a:ext cx="0" cy="340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4039560" y="3633480"/>
                <a:ext cx="510120" cy="339840"/>
                <a:chOff x="4039560" y="3633480"/>
                <a:chExt cx="510120" cy="3398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124520" y="3633480"/>
                  <a:ext cx="339840" cy="3398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039560" y="3633480"/>
                  <a:ext cx="510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CH" sz="1400" spc="-1" strike="noStrike">
                      <a:solidFill>
                        <a:srgbClr val="000000"/>
                      </a:solidFill>
                      <a:latin typeface="Arial"/>
                    </a:rPr>
                    <a:t>ex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6" name=""/>
            <p:cNvGrpSpPr/>
            <p:nvPr/>
          </p:nvGrpSpPr>
          <p:grpSpPr>
            <a:xfrm>
              <a:off x="4039560" y="3974040"/>
              <a:ext cx="510120" cy="680400"/>
              <a:chOff x="4039560" y="3974040"/>
              <a:chExt cx="510120" cy="680400"/>
            </a:xfrm>
          </p:grpSpPr>
          <p:sp>
            <p:nvSpPr>
              <p:cNvPr id="137" name=""/>
              <p:cNvSpPr/>
              <p:nvPr/>
            </p:nvSpPr>
            <p:spPr>
              <a:xfrm>
                <a:off x="4294800" y="3974040"/>
                <a:ext cx="0" cy="340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4039560" y="4314600"/>
                <a:ext cx="510120" cy="339840"/>
                <a:chOff x="4039560" y="4314600"/>
                <a:chExt cx="510120" cy="339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124520" y="4314600"/>
                  <a:ext cx="339840" cy="3398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039560" y="4314600"/>
                  <a:ext cx="510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CH" sz="1400" spc="-1" strike="noStrike">
                      <a:solidFill>
                        <a:srgbClr val="000000"/>
                      </a:solidFill>
                      <a:latin typeface="Arial"/>
                    </a:rPr>
                    <a:t>ex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1" name=""/>
            <p:cNvSpPr/>
            <p:nvPr/>
          </p:nvSpPr>
          <p:spPr>
            <a:xfrm>
              <a:off x="5912640" y="1248120"/>
              <a:ext cx="59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20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2592000" y="2355480"/>
              <a:ext cx="0" cy="9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314360" y="3292560"/>
              <a:ext cx="1276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314360" y="4059000"/>
              <a:ext cx="170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017880" y="2355120"/>
              <a:ext cx="0" cy="170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250920" y="1248120"/>
              <a:ext cx="1063440" cy="510480"/>
              <a:chOff x="250920" y="1248120"/>
              <a:chExt cx="1063440" cy="510480"/>
            </a:xfrm>
          </p:grpSpPr>
          <p:sp>
            <p:nvSpPr>
              <p:cNvPr id="147" name=""/>
              <p:cNvSpPr/>
              <p:nvPr/>
            </p:nvSpPr>
            <p:spPr>
              <a:xfrm>
                <a:off x="378720" y="1333080"/>
                <a:ext cx="808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CH" sz="1400" spc="-1" strike="noStrike">
                    <a:solidFill>
                      <a:srgbClr val="000000"/>
                    </a:solidFill>
                    <a:latin typeface="Arial"/>
                  </a:rPr>
                  <a:t>modLis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50920" y="1248120"/>
                <a:ext cx="1063440" cy="510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250920" y="3036960"/>
              <a:ext cx="1063440" cy="510480"/>
              <a:chOff x="250920" y="3036960"/>
              <a:chExt cx="1063440" cy="510480"/>
            </a:xfrm>
          </p:grpSpPr>
          <p:sp>
            <p:nvSpPr>
              <p:cNvPr id="150" name=""/>
              <p:cNvSpPr/>
              <p:nvPr/>
            </p:nvSpPr>
            <p:spPr>
              <a:xfrm>
                <a:off x="378720" y="3121920"/>
                <a:ext cx="808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CH" sz="1400" spc="-1" strike="noStrike">
                    <a:solidFill>
                      <a:srgbClr val="000000"/>
                    </a:solidFill>
                    <a:latin typeface="Arial"/>
                  </a:rPr>
                  <a:t>kerne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50920" y="3036960"/>
                <a:ext cx="1063440" cy="510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250920" y="3803400"/>
              <a:ext cx="1063440" cy="510480"/>
              <a:chOff x="250920" y="3803400"/>
              <a:chExt cx="1063440" cy="510480"/>
            </a:xfrm>
          </p:grpSpPr>
          <p:sp>
            <p:nvSpPr>
              <p:cNvPr id="153" name=""/>
              <p:cNvSpPr/>
              <p:nvPr/>
            </p:nvSpPr>
            <p:spPr>
              <a:xfrm>
                <a:off x="378720" y="3888360"/>
                <a:ext cx="808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CH" sz="1400" spc="-1" strike="noStrike">
                    <a:solidFill>
                      <a:srgbClr val="000000"/>
                    </a:solidFill>
                    <a:latin typeface="Arial"/>
                  </a:rPr>
                  <a:t>ma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50920" y="3803400"/>
                <a:ext cx="1063440" cy="510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6387840" y="4838040"/>
              <a:ext cx="71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6276240" y="5143680"/>
              <a:ext cx="936720" cy="510480"/>
              <a:chOff x="6276240" y="5143680"/>
              <a:chExt cx="936720" cy="510480"/>
            </a:xfrm>
          </p:grpSpPr>
          <p:sp>
            <p:nvSpPr>
              <p:cNvPr id="157" name=""/>
              <p:cNvSpPr/>
              <p:nvPr/>
            </p:nvSpPr>
            <p:spPr>
              <a:xfrm>
                <a:off x="6388560" y="5228640"/>
                <a:ext cx="711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276240" y="5143680"/>
                <a:ext cx="936720" cy="510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7351560" y="5143680"/>
              <a:ext cx="1030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Arial"/>
                </a:rPr>
                <a:t>Global vari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51560" y="4689360"/>
              <a:ext cx="103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Arial"/>
                </a:rPr>
                <a:t>Refere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78720" y="6018480"/>
              <a:ext cx="170280" cy="16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351560" y="5950800"/>
              <a:ext cx="103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Arial"/>
                </a:rPr>
                <a:t>N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esentation Tit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6B4E-4E27-4CD5-B6EA-330B78D294D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CA66576-9C90-4943-8079-67C6B3D19EEB}" type="datetime1">
              <a:rPr lang="en-US"/>
              <a:t>07/29/26</a:t>
            </a:fld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b9b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1170000" y="3089160"/>
            <a:ext cx="7289280" cy="653400"/>
            <a:chOff x="1170000" y="3089160"/>
            <a:chExt cx="7289280" cy="653400"/>
          </a:xfrm>
        </p:grpSpPr>
        <p:sp>
          <p:nvSpPr>
            <p:cNvPr id="164" name=""/>
            <p:cNvSpPr/>
            <p:nvPr/>
          </p:nvSpPr>
          <p:spPr>
            <a:xfrm>
              <a:off x="2532960" y="3416040"/>
              <a:ext cx="79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1170000" y="3089160"/>
              <a:ext cx="1362600" cy="653400"/>
              <a:chOff x="1170000" y="3089160"/>
              <a:chExt cx="1362600" cy="653400"/>
            </a:xfrm>
          </p:grpSpPr>
          <p:sp>
            <p:nvSpPr>
              <p:cNvPr id="166" name=""/>
              <p:cNvSpPr/>
              <p:nvPr/>
            </p:nvSpPr>
            <p:spPr>
              <a:xfrm>
                <a:off x="1333440" y="3198240"/>
                <a:ext cx="103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CH" sz="1600" spc="-1" strike="noStrike">
                    <a:solidFill>
                      <a:srgbClr val="000000"/>
                    </a:solidFill>
                    <a:latin typeface="Arial"/>
                  </a:rPr>
                  <a:t>firstEx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170000" y="3089160"/>
                <a:ext cx="1362600" cy="653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3325680" y="3197520"/>
              <a:ext cx="435960" cy="435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"/>
                </a:rPr>
                <a:t>ex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62000" y="3416040"/>
              <a:ext cx="79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54720" y="3197520"/>
              <a:ext cx="435960" cy="435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"/>
                </a:rPr>
                <a:t>ex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91040" y="3416040"/>
              <a:ext cx="79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83760" y="3197520"/>
              <a:ext cx="435600" cy="435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"/>
                </a:rPr>
                <a:t>ex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19720" y="3416040"/>
              <a:ext cx="79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12440" y="3197520"/>
              <a:ext cx="435960" cy="435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"/>
                </a:rPr>
                <a:t>ex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48760" y="3416040"/>
              <a:ext cx="79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41480" y="3306960"/>
              <a:ext cx="217800" cy="217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esentation Tit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3E11-3215-4691-8B53-ECD4805B215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0116358-A44B-47B0-9524-A2EF554D5143}" type="datetime1">
              <a:rPr lang="en-US"/>
              <a:t>07/29/26</a:t>
            </a:fld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b9b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cc"/>
                </a:solidFill>
                <a:latin typeface="Frutiger 55 Roman"/>
              </a:rPr>
              <a:t>2</a:t>
            </a:r>
            <a:r>
              <a:rPr b="0" lang="de-CH" sz="4400" spc="-1" strike="noStrike" baseline="30000">
                <a:solidFill>
                  <a:srgbClr val="0000cc"/>
                </a:solidFill>
                <a:latin typeface="Frutiger 55 Roman"/>
              </a:rPr>
              <a:t>nd</a:t>
            </a:r>
            <a:r>
              <a:rPr b="0" lang="de-CH" sz="4400" spc="-1" strike="noStrike">
                <a:solidFill>
                  <a:srgbClr val="0000cc"/>
                </a:solidFill>
                <a:latin typeface="Frutiger 55 Roman"/>
              </a:rPr>
              <a:t> Phase</a:t>
            </a:r>
            <a:endParaRPr b="0" lang="en-US" sz="4400" spc="-1" strike="noStrike">
              <a:solidFill>
                <a:srgbClr val="0000cc"/>
              </a:solidFill>
              <a:latin typeface="Frutiger 55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Frutiger 55 Roman"/>
              </a:rPr>
              <a:t>Create complete picture of the final locations (file &amp; memory offsets)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Frutiger 55 Roman"/>
              </a:rPr>
              <a:t>Target dependent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Frutiger 55 Roman"/>
              </a:rPr>
              <a:t>See „Library Formats“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esentation Tit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10C5-ACCC-4C95-B27F-1DD058BF57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19A3CC0-9F16-462F-A928-AF97C147F186}" type="datetime1">
              <a:rPr lang="en-US"/>
              <a:t>07/29/26</a:t>
            </a:fld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b9b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cc"/>
                </a:solidFill>
                <a:latin typeface="Frutiger 55 Roman"/>
              </a:rPr>
              <a:t>3</a:t>
            </a:r>
            <a:r>
              <a:rPr b="0" lang="de-CH" sz="4400" spc="-1" strike="noStrike" baseline="30000">
                <a:solidFill>
                  <a:srgbClr val="0000cc"/>
                </a:solidFill>
                <a:latin typeface="Frutiger 55 Roman"/>
              </a:rPr>
              <a:t>rd</a:t>
            </a:r>
            <a:r>
              <a:rPr b="0" lang="de-CH" sz="4400" spc="-1" strike="noStrike">
                <a:solidFill>
                  <a:srgbClr val="0000cc"/>
                </a:solidFill>
                <a:latin typeface="Frutiger 55 Roman"/>
              </a:rPr>
              <a:t> Phase</a:t>
            </a:r>
            <a:endParaRPr b="0" lang="en-US" sz="4400" spc="-1" strike="noStrike">
              <a:solidFill>
                <a:srgbClr val="0000cc"/>
              </a:solidFill>
              <a:latin typeface="Frutiger 55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Frutiger 55 Roman"/>
              </a:rPr>
              <a:t>Write the library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Frutiger 55 Roman"/>
              </a:rPr>
              <a:t>Relocations (see „Difficulties“)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esentation Tit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CFAA-2384-425A-BA1F-04E0B89B02E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531B0AA-9869-4889-80D2-E43EB4EE36EA}" type="datetime1">
              <a:rPr lang="en-US"/>
              <a:t>07/29/26</a:t>
            </a:fld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b9b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cc"/>
                </a:solidFill>
                <a:latin typeface="Frutiger 55 Roman"/>
              </a:rPr>
              <a:t>4</a:t>
            </a:r>
            <a:r>
              <a:rPr b="0" lang="de-CH" sz="4400" spc="-1" strike="noStrike" baseline="30000">
                <a:solidFill>
                  <a:srgbClr val="0000cc"/>
                </a:solidFill>
                <a:latin typeface="Frutiger 55 Roman"/>
              </a:rPr>
              <a:t>th</a:t>
            </a:r>
            <a:r>
              <a:rPr b="0" lang="de-CH" sz="4400" spc="-1" strike="noStrike">
                <a:solidFill>
                  <a:srgbClr val="0000cc"/>
                </a:solidFill>
                <a:latin typeface="Frutiger 55 Roman"/>
              </a:rPr>
              <a:t> Phase</a:t>
            </a:r>
            <a:endParaRPr b="0" lang="en-US" sz="4400" spc="-1" strike="noStrike">
              <a:solidFill>
                <a:srgbClr val="0000cc"/>
              </a:solidFill>
              <a:latin typeface="Frutiger 55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Frutiger 55 Roman"/>
              </a:rPr>
              <a:t>Fixup library contents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Frutiger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Frutiger 45 Light"/>
              </a:rPr>
              <a:t>needed information obtained during 3</a:t>
            </a:r>
            <a:r>
              <a:rPr b="0" lang="de-CH" sz="2800" spc="-1" strike="noStrike" baseline="30000">
                <a:solidFill>
                  <a:srgbClr val="000000"/>
                </a:solidFill>
                <a:latin typeface="Frutiger 45 Light"/>
              </a:rPr>
              <a:t>rd</a:t>
            </a:r>
            <a:r>
              <a:rPr b="0" lang="de-CH" sz="2800" spc="-1" strike="noStrike">
                <a:solidFill>
                  <a:srgbClr val="000000"/>
                </a:solidFill>
                <a:latin typeface="Frutiger 45 Light"/>
              </a:rPr>
              <a:t> phase</a:t>
            </a:r>
            <a:endParaRPr b="0" lang="en-US" sz="2800" spc="-1" strike="noStrike">
              <a:solidFill>
                <a:srgbClr val="000000"/>
              </a:solidFill>
              <a:latin typeface="Frutiger 45 Ligh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Frutiger 55 Roman"/>
              </a:rPr>
              <a:t>PE/COFF necessary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Frutiger 55 Roman"/>
              </a:rPr>
              <a:t>ELF not necessary (can be eliminated)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esentation Tit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6D3A-24CE-44BD-BB42-84E562C50CE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9CDFEA8-0919-4214-9F36-61A281959D0D}" type="datetime1">
              <a:rPr lang="en-US"/>
              <a:t>07/29/26</a:t>
            </a:fld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08:23:06Z</dcterms:created>
  <dc:creator>Marc</dc:creator>
  <dc:description/>
  <dc:language>en-US</dc:language>
  <cp:lastModifiedBy>Marc</cp:lastModifiedBy>
  <dcterms:modified xsi:type="dcterms:W3CDTF">2004-04-06T09:49:54Z</dcterms:modified>
  <cp:revision>18</cp:revision>
  <dc:subject/>
  <dc:title>DevElfLinker</dc:title>
</cp:coreProperties>
</file>